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AF880-FCC9-40BE-AB2C-667819D23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A9BC4-06E7-461A-ACE4-2257FDACD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4E155-55B3-4BF6-B8B1-60860CA51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B63E5-B21D-4215-B93A-90184EB9E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5C77F-F11E-42D7-8CEF-05DD70BFA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D5BD4-CCDB-4A3E-9D5E-702CC5CEB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813B4-EC35-4206-808D-4C4A308D1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D22B0-AC80-408D-9394-9E1903EC1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1FD98-827E-4CF6-BC73-9764A6E40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73B3E-DF0F-471C-A7C0-CB73BCBF2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E4335-0198-4086-A7FC-1F6E3164F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B1CAE-8C7F-425D-A20A-A8559C73C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19DCF-FC9C-4136-971D-3FD8022B7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18304-B755-4131-8B39-EB40DD3F3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BA564-3F80-4DA4-8FA4-908AB3656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3CE43-71AD-41F1-90C3-8A894022A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ED4CC-B333-4C13-834D-D39C71D94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1DD7E-066B-4798-B6C1-76B6D3956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6F652-1692-44B9-86F3-7A42F53F1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6C194-3D7F-42BA-A1D4-2ACDF1BD2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5A2C8-DE59-4C9C-80C0-E56ED17A1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6875E-E02E-4EB2-B7EF-1DA890AB2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EAF2E-BC24-454A-AAA1-D09008121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BDE75-5353-4DC8-9A0C-44EF79B0F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C00A6-F9F0-4C41-9DEA-9DC3F2005895}" type="slidenum">
              <a:rPr b="0" lang="ro-RO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6F781-9482-49AD-AB4D-377E74068585}" type="slidenum">
              <a:rPr b="0" lang="ro-RO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feec94"/>
                </a:solidFill>
                <a:latin typeface="Times New Roman"/>
              </a:rPr>
              <a:t>Să gândim...</a:t>
            </a:r>
            <a:r>
              <a:rPr b="1" lang="en-US" sz="4800" spc="-1" strike="noStrike">
                <a:solidFill>
                  <a:srgbClr val="feec94"/>
                </a:solidFill>
                <a:latin typeface="Times New Roman"/>
              </a:rPr>
              <a:t>cum folos</a:t>
            </a:r>
            <a:r>
              <a:rPr b="1" lang="ro-RO" sz="4800" spc="-1" strike="noStrike">
                <a:solidFill>
                  <a:srgbClr val="feec94"/>
                </a:solidFill>
                <a:latin typeface="Times New Roman"/>
              </a:rPr>
              <a:t>im</a:t>
            </a:r>
            <a:r>
              <a:rPr b="1" lang="en-US" sz="4800" spc="-1" strike="noStrike">
                <a:solidFill>
                  <a:srgbClr val="feec94"/>
                </a:solidFill>
                <a:latin typeface="Times New Roman"/>
              </a:rPr>
              <a:t> cuno</a:t>
            </a:r>
            <a:r>
              <a:rPr b="1" lang="ro-RO" sz="4800" spc="-1" strike="noStrike">
                <a:solidFill>
                  <a:srgbClr val="feec94"/>
                </a:solidFill>
                <a:latin typeface="Times New Roman"/>
              </a:rPr>
              <a:t>ş</a:t>
            </a:r>
            <a:r>
              <a:rPr b="1" lang="en-US" sz="4800" spc="-1" strike="noStrike">
                <a:solidFill>
                  <a:srgbClr val="feec94"/>
                </a:solidFill>
                <a:latin typeface="Times New Roman"/>
              </a:rPr>
              <a:t>tin</a:t>
            </a:r>
            <a:r>
              <a:rPr b="1" lang="ro-RO" sz="4800" spc="-1" strike="noStrike">
                <a:solidFill>
                  <a:srgbClr val="feec94"/>
                </a:solidFill>
                <a:latin typeface="Times New Roman"/>
              </a:rPr>
              <a:t>ţ</a:t>
            </a:r>
            <a:r>
              <a:rPr b="1" lang="en-US" sz="4800" spc="-1" strike="noStrike">
                <a:solidFill>
                  <a:srgbClr val="feec94"/>
                </a:solidFill>
                <a:latin typeface="Times New Roman"/>
              </a:rPr>
              <a:t>ele matematice </a:t>
            </a:r>
            <a:r>
              <a:rPr b="1" lang="ro-RO" sz="4800" spc="-1" strike="noStrike">
                <a:solidFill>
                  <a:srgbClr val="feec94"/>
                </a:solidFill>
                <a:latin typeface="Times New Roman"/>
              </a:rPr>
              <a:t>î</a:t>
            </a:r>
            <a:r>
              <a:rPr b="1" lang="en-US" sz="4800" spc="-1" strike="noStrike">
                <a:solidFill>
                  <a:srgbClr val="feec94"/>
                </a:solidFill>
                <a:latin typeface="Times New Roman"/>
              </a:rPr>
              <a:t>n</a:t>
            </a:r>
            <a:br>
              <a:rPr sz="4800"/>
            </a:br>
            <a:r>
              <a:rPr b="1" lang="ro-RO" sz="4800" spc="-1" strike="noStrike">
                <a:solidFill>
                  <a:srgbClr val="feec94"/>
                </a:solidFill>
                <a:latin typeface="Times New Roman"/>
              </a:rPr>
              <a:t>practică?</a:t>
            </a:r>
            <a:r>
              <a:rPr b="1" lang="en-US" sz="48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400" spc="-1" strike="noStrike">
                <a:solidFill>
                  <a:srgbClr val="ffffff"/>
                </a:solidFill>
                <a:latin typeface="Times New Roman"/>
              </a:rPr>
              <a:t>,,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Divi</a:t>
            </a:r>
            <a:r>
              <a:rPr b="1" i="1" lang="ro-RO" sz="2400" spc="-1" strike="noStrike">
                <a:solidFill>
                  <a:srgbClr val="ffffff"/>
                </a:solidFill>
                <a:latin typeface="Times New Roman"/>
              </a:rPr>
              <a:t>zibilitatea numerelor naturale-un pas în multiplicarea cunoştinţelor matematice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rupa a II-a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ffff"/>
                </a:solidFill>
                <a:latin typeface="Times New Roman"/>
              </a:rPr>
              <a:t>Dincă Dian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ro-RO" sz="2000" spc="-1" strike="noStrike">
                <a:solidFill>
                  <a:srgbClr val="ffffff"/>
                </a:solidFill>
                <a:latin typeface="Times New Roman"/>
              </a:rPr>
              <a:t>Şuiu Ancuţa,Filip Adelina, Turcitu Andre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ffff"/>
                </a:solidFill>
                <a:latin typeface="Times New Roman"/>
              </a:rPr>
              <a:t>Clasa a VI-a 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324000" y="189000"/>
            <a:ext cx="240012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feec94"/>
                </a:solidFill>
                <a:latin typeface="Times New Roman"/>
              </a:rPr>
              <a:t>Ce conexiuni sunt între matematică şi lumea înconjurăţoare?</a:t>
            </a:r>
            <a:br>
              <a:rPr sz="4000"/>
            </a:b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ffff"/>
                </a:solidFill>
                <a:latin typeface="Times New Roman"/>
              </a:rPr>
              <a:t>Prin învăţarea matematicii voi dobândi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ffff"/>
                </a:solidFill>
                <a:latin typeface="Times New Roman"/>
              </a:rPr>
              <a:t>Responsabilitate şi capacitate de înţelege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ffff"/>
                </a:solidFill>
                <a:latin typeface="Times New Roman"/>
              </a:rPr>
              <a:t>Creativitate şi curiozitate intelectuală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ffff"/>
                </a:solidFill>
                <a:latin typeface="Times New Roman"/>
              </a:rPr>
              <a:t>Gândire critică şi gândire sistemică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ffff"/>
                </a:solidFill>
                <a:latin typeface="Times New Roman"/>
              </a:rPr>
              <a:t>Identificarea, formularea şi soluţionarea problemel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ffff"/>
                </a:solidFill>
                <a:latin typeface="Times New Roman"/>
              </a:rPr>
              <a:t>Auto-formare</a:t>
            </a:r>
            <a:r>
              <a:rPr b="0" lang="ro-RO" sz="3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feec94"/>
                </a:solidFill>
                <a:latin typeface="Times New Roman"/>
              </a:rPr>
              <a:t>Cum abordăm în mod creativ rezolvarea problemelor ?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Times New Roman"/>
              </a:rPr>
              <a:t>Multe dintre problemele din lumea reală se pot rezolva, bazându-mă p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o-RO" sz="3200" spc="-1" strike="noStrike">
                <a:solidFill>
                  <a:srgbClr val="ffffff"/>
                </a:solidFill>
                <a:latin typeface="Times New Roman"/>
              </a:rPr>
              <a:t>- divizibilitatea numerelor natura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o-RO" sz="3200" spc="-1" strike="noStrike">
                <a:solidFill>
                  <a:srgbClr val="ffffff"/>
                </a:solidFill>
                <a:latin typeface="Times New Roman"/>
              </a:rPr>
              <a:t>- multiplii şi divizor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o-RO" sz="3200" spc="-1" strike="noStrike">
                <a:solidFill>
                  <a:srgbClr val="ffffff"/>
                </a:solidFill>
                <a:latin typeface="Times New Roman"/>
              </a:rPr>
              <a:t>- descompuneri în factor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Times New Roman"/>
              </a:rPr>
              <a:t>                            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5219640" y="4076640"/>
            <a:ext cx="2735280" cy="198144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4211640" y="4876920"/>
            <a:ext cx="273528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feec94"/>
                </a:solidFill>
                <a:latin typeface="Times New Roman"/>
              </a:rPr>
              <a:t>Ce etape sunt necesare pentru rezolvarea unei probleme?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Times New Roman"/>
              </a:rPr>
              <a:t>Citim cu atenţie textul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Times New Roman"/>
              </a:rPr>
              <a:t>Determinăm elementele cunoscute şi elementele necunoscute din problemă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Times New Roman"/>
              </a:rPr>
              <a:t>Stabilim un raţionament de rezolvare a problemei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Times New Roman"/>
              </a:rPr>
              <a:t>Redactăm rezolvarea problemei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Times New Roman"/>
              </a:rPr>
              <a:t>Verificăm rezultatul obţinut.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227640" y="4076640"/>
            <a:ext cx="2521080" cy="20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Cum calcul</a:t>
            </a:r>
            <a:r>
              <a:rPr b="1" lang="ro-RO" sz="4000" spc="-1" strike="noStrike">
                <a:solidFill>
                  <a:srgbClr val="feec94"/>
                </a:solidFill>
                <a:latin typeface="Times New Roman"/>
              </a:rPr>
              <a:t>ăm c.m.m.d.c. al mai multor numere naturale?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600" spc="-1" strike="noStrike">
                <a:solidFill>
                  <a:srgbClr val="ffffff"/>
                </a:solidFill>
                <a:latin typeface="Times New Roman"/>
              </a:rPr>
              <a:t>Etape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600" spc="-1" strike="noStrike">
                <a:solidFill>
                  <a:srgbClr val="ffffff"/>
                </a:solidFill>
                <a:latin typeface="Times New Roman"/>
              </a:rPr>
              <a:t>Se descompun numerele naturale în produse de puteri de numere prime;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600" spc="-1" strike="noStrike">
                <a:solidFill>
                  <a:srgbClr val="ffffff"/>
                </a:solidFill>
                <a:latin typeface="Times New Roman"/>
              </a:rPr>
              <a:t>Se aleg factorii primi, comuni, o singură dată, cu exponenţii cei mai mici şi se efectuează produsul lor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0" y="0"/>
                <a:ext cx="466560" cy="27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0" y="276120"/>
                <a:ext cx="200160" cy="26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6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3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276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0" y="0"/>
                <a:ext cx="466560" cy="27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0" y="276120"/>
                <a:ext cx="200160" cy="26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6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4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276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0" y="0"/>
                <a:ext cx="466560" cy="27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0" y="276120"/>
                <a:ext cx="200160" cy="26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6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4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276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Cum calcul</a:t>
            </a:r>
            <a:r>
              <a:rPr b="1" lang="ro-RO" sz="4000" spc="-1" strike="noStrike">
                <a:solidFill>
                  <a:srgbClr val="feec94"/>
                </a:solidFill>
                <a:latin typeface="Times New Roman"/>
              </a:rPr>
              <a:t>ăm c.m.m.m.c. al mai multor numere naturale?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600" spc="-1" strike="noStrike">
                <a:solidFill>
                  <a:srgbClr val="ffffff"/>
                </a:solidFill>
                <a:latin typeface="Times New Roman"/>
              </a:rPr>
              <a:t>Etape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600" spc="-1" strike="noStrike">
                <a:solidFill>
                  <a:srgbClr val="ffffff"/>
                </a:solidFill>
                <a:latin typeface="Times New Roman"/>
              </a:rPr>
              <a:t>Se descompun numerele naturale în produse de puteri de numere prime;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600" spc="-1" strike="noStrike">
                <a:solidFill>
                  <a:srgbClr val="ffffff"/>
                </a:solidFill>
                <a:latin typeface="Times New Roman"/>
              </a:rPr>
              <a:t>Se aleg factorii primi, comuni şi necomuni, o singură dată, cu exponenţii cei mai mari şi se efectuează produsul lor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Descompunerea numerelor naturale </a:t>
            </a:r>
            <a:r>
              <a:rPr b="1" lang="ro-RO" sz="3600" spc="-1" strike="noStrike">
                <a:solidFill>
                  <a:srgbClr val="feec94"/>
                </a:solidFill>
                <a:latin typeface="Times New Roman"/>
              </a:rPr>
              <a:t>în factori primi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39280" y="1483920"/>
            <a:ext cx="40388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Times New Roman"/>
              </a:rPr>
              <a:t>La ora de educaţie fizică 28 de elevi trebuie aşezaţi în coloane, astfel încât să nu rămână nici un elev în afară. În câte moduri se pot alinia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Times New Roman"/>
              </a:rPr>
              <a:t>28=(2 *2)*7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6610320" y="258588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4643280" y="3068640"/>
            <a:ext cx="3816360" cy="26654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6086520" y="3941640"/>
                <a:ext cx="1158840" cy="218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feec94"/>
                </a:solidFill>
                <a:latin typeface="Times New Roman"/>
              </a:rPr>
              <a:t>Cum putem modela activităţile din viaţa cotidiană folosind numerele ?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4643280" y="3645000"/>
            <a:ext cx="3816360" cy="2388960"/>
          </a:xfrm>
          <a:prstGeom prst="rect">
            <a:avLst/>
          </a:prstGeom>
          <a:ln w="0">
            <a:noFill/>
          </a:ln>
        </p:spPr>
      </p:pic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n cofetar a preg</a:t>
            </a:r>
            <a:r>
              <a:rPr b="0" lang="ro-RO" sz="3200" spc="-1" strike="noStrike">
                <a:solidFill>
                  <a:srgbClr val="ffffff"/>
                </a:solidFill>
                <a:latin typeface="Times New Roman"/>
              </a:rPr>
              <a:t>ă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it un num</a:t>
            </a:r>
            <a:r>
              <a:rPr b="0" lang="ro-RO" sz="3200" spc="-1" strike="noStrike">
                <a:solidFill>
                  <a:srgbClr val="ffffff"/>
                </a:solidFill>
                <a:latin typeface="Times New Roman"/>
              </a:rPr>
              <a:t>ă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 de pr</a:t>
            </a:r>
            <a:r>
              <a:rPr b="0" lang="ro-RO" sz="3200" spc="-1" strike="noStrike">
                <a:solidFill>
                  <a:srgbClr val="ffffff"/>
                </a:solidFill>
                <a:latin typeface="Times New Roman"/>
              </a:rPr>
              <a:t>ă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ituri. Dac</a:t>
            </a:r>
            <a:r>
              <a:rPr b="0" lang="ro-RO" sz="3200" spc="-1" strike="noStrike">
                <a:solidFill>
                  <a:srgbClr val="ffffff"/>
                </a:solidFill>
                <a:latin typeface="Times New Roman"/>
              </a:rPr>
              <a:t>ă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le </a:t>
            </a:r>
            <a:r>
              <a:rPr b="0" lang="ro-RO" sz="3200" spc="-1" strike="noStrike">
                <a:solidFill>
                  <a:srgbClr val="ffffff"/>
                </a:solidFill>
                <a:latin typeface="Times New Roman"/>
              </a:rPr>
              <a:t>aşează pe un platou în rând câte 5, 6,7 sau 8, constată că de fiecare dată îi rămân 3prăjituri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Times New Roman"/>
              </a:rPr>
              <a:t>Câte prăjituri a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Times New Roman"/>
              </a:rPr>
              <a:t>făcut cofetarul ştiind că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Times New Roman"/>
              </a:rPr>
              <a:t>este cel mai mic numă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Times New Roman"/>
              </a:rPr>
              <a:t>cu aceste proprietăţi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feec94"/>
                </a:solidFill>
                <a:latin typeface="Times New Roman"/>
              </a:rPr>
              <a:t>Cum împărţim merele?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Times New Roman"/>
              </a:rPr>
              <a:t>Aflaţi câte mere sunt într-un coş, ştiind că, împărţite la 8 copii, mai rămân 5, împărţite la 6 copii, mai rămân 3 şi împărţite la 5 copii, mai rămân 2 mer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o-RO" sz="3200" spc="-1" strike="noStrike">
                <a:solidFill>
                  <a:srgbClr val="ffffff"/>
                </a:solidFill>
                <a:latin typeface="Times New Roman"/>
              </a:rPr>
              <a:t>Care este cel      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o-RO" sz="3200" spc="-1" strike="noStrike">
                <a:solidFill>
                  <a:srgbClr val="ffffff"/>
                </a:solidFill>
                <a:latin typeface="Times New Roman"/>
              </a:rPr>
              <a:t>mai mar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o-RO" sz="3200" spc="-1" strike="noStrike">
                <a:solidFill>
                  <a:srgbClr val="ffffff"/>
                </a:solidFill>
                <a:latin typeface="Times New Roman"/>
              </a:rPr>
              <a:t>număr de două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o-RO" sz="3200" spc="-1" strike="noStrike">
                <a:solidFill>
                  <a:srgbClr val="ffffff"/>
                </a:solidFill>
                <a:latin typeface="Times New Roman"/>
              </a:rPr>
              <a:t>cifre cu această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o-RO" sz="3200" spc="-1" strike="noStrike">
                <a:solidFill>
                  <a:srgbClr val="ffffff"/>
                </a:solidFill>
                <a:latin typeface="Times New Roman"/>
              </a:rPr>
              <a:t>proprietat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4500720" y="3357720"/>
            <a:ext cx="3384360" cy="24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8T17:46:29Z</dcterms:created>
  <dc:creator>Popescu Mirela</dc:creator>
  <dc:description/>
  <dc:language>en-US</dc:language>
  <cp:lastModifiedBy>Popescu Mirela</cp:lastModifiedBy>
  <dcterms:modified xsi:type="dcterms:W3CDTF">2010-09-19T14:53:43Z</dcterms:modified>
  <cp:revision>13</cp:revision>
  <dc:subject/>
  <dc:title>Să gândim...</dc:title>
</cp:coreProperties>
</file>